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857C-C717-4B0F-AB21-C3B5B1BF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7DF-666B-466F-A225-48A086EC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F882-7ADE-42DD-9915-A993BB25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89DEE-63F9-4691-B5CA-17C8BE6D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B4FD6-B554-457C-942B-18842D79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DE82F-AE26-4DE4-B148-95F6592C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249AD1-7212-4A27-A8AA-D0AC685C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435AD-67C2-47B0-AC51-CD17B117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D700A-2755-4F0D-9641-CC858844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B91AE-D37D-4F4B-97F2-033F7577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F550A-413F-4500-A532-879CD01D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3C9DB-032B-4E56-AFA6-FB2FD314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A560-2CF3-496B-B5EC-27E4D1E5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E4C5F-E15E-4DC0-B11F-C1697659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C75C8-FF1F-449F-8970-F2E03FE5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57B5E9-5289-4C0D-ACB7-0AD486B0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A3141D-F28E-4486-85FF-8C2444C5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44B29-BAC1-4C1C-93C8-BFD602B0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3CC0E-2367-4CF9-9D84-7DCEA755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272A9-94F9-4DDC-945A-E7B9997F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EB342-DE6A-4362-9DAD-35FA4CF1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9ED4E3-58F5-487A-97A3-CFC90361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DCD0C-CEE4-4A50-965D-41F5DBDB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078-49FB-40D9-AD58-500926B5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4E1E4-6165-44F2-A8D7-AF92875D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CE215-1D70-44F7-B3E8-257DD7DE2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B9344-1DA2-4208-B8A0-38EFBD3E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684C6-8DFA-4C81-9C5C-8BDBEBB6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E394F-3526-4FB6-A948-FF069E28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FA377-F036-4622-9B0D-90D4995C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8FCA6-73E0-4AD7-B222-057A33AE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6501E-D106-4A52-894C-761E06EB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E5B09-28CB-4075-9800-7B89EDFB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1271E4-8F28-4DBA-80DE-B945DC48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28745-4BBC-4CF8-A0C8-5212C936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5A84E-9322-4D2A-A744-767DC4CA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A8BA4-F754-4D19-9D84-FE3AB87B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A55DF5-01F4-4404-AACF-2C32BAD6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B3190-5CE4-4558-93A2-395FC781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248A7-9F20-4EA1-A381-5BA18B58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7B22B-BD42-4463-B674-8533215C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713C6-A701-45DF-97B5-D4CD6BC2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80AFB-221C-41D0-A71E-B42CAB40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BA4C4-1354-4B75-B08D-572F3B37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D788F9-EA56-4B76-A145-2F4E0513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AB89-554F-4152-9156-CA3EE384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A8AD6-FF55-4979-8A17-A40A8F59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A5CE2-E2C1-4EC1-B46D-90C3A30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21914-FA05-47AF-A60B-CA4193F6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FB57F-E8B3-480C-832A-C9DF8165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7C557-0869-490B-B7F6-A77126A9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7F98B-3831-49A2-A98C-A95923EB7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DDD081-2788-47B9-954E-A409F8A5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3E719-56D6-441E-903C-2CBC8D4E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CE033-E006-4146-A6A2-2B99E747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05974-52CD-4AB9-9DB0-E8BEDB39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4BDD-3310-424B-8A37-F14FA54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FC9C3-8568-4AA3-AED0-3AE74F70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A7A6B5-E8BF-44D7-A4AD-FF033749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7A32A3-07EE-44F0-A346-48999C4A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E56D2-ED02-4703-AFD3-E8A746B8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C00F3-ED52-4B03-A4E0-D798E488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709D9-6C8F-4E61-AF25-A16F78CC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9CA46D-81B7-4BEF-839C-A16EBD6D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334A4-D598-4D90-BC63-235B49C9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0724C-77E8-4DF2-BAEC-7B9154DD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1D087-CB6F-439F-AD3A-4D87247E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BB79-E90C-44E8-B8A2-F1D6195A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B49C2-5E1A-44F0-A6B2-F8F1653B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FC1EC-3E00-4A84-8205-B0A57B886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60C738-081F-4242-AD19-26DA2691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3DCFE-CDBC-413E-8355-B96F2120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85CBF4-19F3-46B3-8FC4-B3C8A616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EF3207-BFC9-42EC-8F17-6E07D24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A9D62E-0DAD-48B1-A5BE-82155EC5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A9388F-4E76-45F0-88FB-A7D5B6F3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99A56-2E29-4EA0-8E88-A3E77177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D5E6AB-0FA7-49BA-A01B-E24A1284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F5C9-2927-4D0A-8C47-B46CC593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6571E3-8AC0-41A8-B0C7-27228598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11B46-1998-4A5C-A03A-A0F72BE4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81DCFD-D915-42FB-BC99-6F219488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44A93-43EB-42A2-8ED8-F1E022C2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A0F49D-8061-4513-9234-1D2484CA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3A70D-D998-4F2C-86F9-97A8DCC6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67E4E-774D-42F5-9574-E00A5333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754808-C514-4841-8A4A-EC11260F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801476-3EE4-45E9-8055-EF12B099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3D98E-5E60-4CF6-851D-4FE93F51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9537-9759-4DCC-9F74-339FA2CF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9814F-BD72-4E25-9E44-D5B0AD05A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DDA8F-4EF6-41BF-BAD7-ACCA8E6C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B5C41-18FC-496A-A4C7-ACA81B4F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041801-5270-4B43-934B-69BF8F0C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14CE11-9729-406F-9AAC-6011708A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2317AC-A2A7-4FE0-9B38-0E28F247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F16A34-F86D-4D10-A96C-9CE8C524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877912-4328-4C75-8FE4-A55B32F9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FCF0C4-7F9B-4AE3-B096-C69BD6E2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B29F8B-185E-4A5E-9C0C-BAB76D05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259F-10F6-49A6-B38A-6134CF45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970B4-E041-4A75-8A32-04362BAB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9FC1F-EFF7-450E-B3CC-49A1C94C3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00B56-29C9-4D5F-B676-3FA6EA749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7E1549-46FE-4A16-89E9-18AFA878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C536D6-F57C-461F-AED0-A6B64E1D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F69C1E-781A-4D89-899E-A48C2948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A7D5BC-694D-42E5-BBD5-01D7078B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F7341F-8481-4B52-B743-EB749F8E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73E93-D223-405A-B9F3-821CE6BA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E386D-4293-4BBE-8CDB-9C650BA4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76F-E378-4839-B09E-FC4EB3D6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5E41-B10F-4C11-8730-7358DB4A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812AFE-6F68-4319-93BD-567F120E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F01081-2E67-4CC2-8A77-07FFD60D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20C49A-CD58-4F63-8DC5-A1D9D5C7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5488F-EE02-43EB-BAFF-840058E2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2EAAA-90F9-447C-B107-1218E35F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D33477-4A93-4751-90A0-7EAB695B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F3AFF0-37F1-4F59-A87D-43D4E120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A2A8E9-4D3E-46E3-91FF-9E39DF76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DA0F27-1AC3-43A7-91CB-283F1DC8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48364-A8E8-408F-AB32-B12094B7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ECDB-128B-40BF-B0B0-ECFB146D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5BF61-F316-45E6-BF78-E14957E4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54DDDC-D28D-42BF-9E9D-5E4D90D4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F426BC-006D-4EB6-81CF-26532694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7BED49-0711-487A-BB2B-4C914ECC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2C9A31-3426-4D4E-869D-48B5A404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F887A-2BE6-492C-AD12-B190352C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CCA9DA-6009-48FB-801E-B686278F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734F6-8C3E-474B-8DA2-9835AD05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FCE8B5-8305-40B2-9CA6-7710BAE6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E38A6C-FB42-4C61-848B-E868433F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3DD07-B6C7-4BDD-94EE-C2970241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3FB84A-6232-4052-897E-DBB8B9D4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647540-5CAA-44A8-AB52-C2ECA2DB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9967C-89A9-440B-8492-C4F8E0F5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B24F25-5574-4541-AD72-D5C190EF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C5E9EF-4348-4507-B4C0-F0C58DC0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B68F90-7ED9-4C77-A9A9-E89420F2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6D7C5F-595B-42FD-9E08-474FE5C6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5D0714-ED75-4D4D-9A30-0F471286B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1B9BFC-B012-44E2-8492-E4F68B4C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44F7D5-13D6-4560-B103-A974FB58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26F3-202F-4772-A122-5206D99A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D283A-DBBC-4FB9-A3F0-8CFFF6AC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2C4719-7522-4EA4-A40E-BC81E1E6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0E37BF-CA1C-40AB-92B5-ECC7C699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FF73D-F41E-4E3D-9207-64D202C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3A2B5F-9E6E-47E5-8C74-66900DB7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6C667-35E0-4E26-8231-72703587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312E75-AA3B-40AB-B032-3945C226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B7A434-967F-47EE-B918-B7F297FF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71C47B-4B4C-4151-9CBA-82A45040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531BF-7B1A-412F-99FC-0C0D5C71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CBCD-28AE-45AE-BCDB-EEF2B097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3D63EC-1C37-4508-8B36-18805F3B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439980-4E4C-4443-912F-91E5936D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F66DC1-47C3-4E2E-B361-3D67027E4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9BE42-D7BD-4418-BECA-5E9B3EFC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87D6BC-4A5D-4EF2-B963-CC96A044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6BCFA2-6292-4E6A-9E85-CFED3BAE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89EE5-05C5-48DA-9857-EFFAD94C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B4AF67-DE81-4C02-B1BF-8E5DE0B4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E895BC-7A0A-4851-8D77-D34EFE71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FEC7D-D038-4736-844E-7C642F7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7613-F4B6-416E-92FD-36F9C287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B0172D-FAAB-4E27-9234-95508C36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350F06-A0B1-4082-B4A2-CC249061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EC293-4CCF-4F8B-9921-030A8D33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99FF0-BB7C-4D67-A66D-BBAE986F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3C3EE-F5B9-4CC4-A90F-5D76230A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3B4BF-62F8-4DAD-A90E-50296A14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A183-FA14-4F85-8D94-F7639754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632-9722-4E3C-AC3A-D82CF770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0B8F-DFC3-4BED-A967-27501204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13DC-DA3E-4670-B315-64DB7690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96025-C19F-4D75-B0F5-6912776F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BC61-1B6E-4A0A-8724-824B0882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CCE61-8B10-40C8-AEFA-527D3B98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C75F-08E9-43E2-9B25-BAD8A3CF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ECBFA-F4A8-45FE-A335-7A3E40A2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2D5A8-85BD-491F-BFB3-297F6A0A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189C-8D16-4A55-B0F8-80E3992A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1CF56-6020-4B1A-82F1-4CCB5F62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8E0D-18FE-4648-B163-834F0477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AD58D-1EE1-4F5A-BA68-9A68424A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59FD1-1A87-42BB-A10E-EE8396C7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807F8-3DDF-45E6-9099-8EF8681C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EB92E-C9B0-4E59-94E5-B031369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1EF45-9142-4C20-9BB1-A70989CB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58BBE-C101-4D08-BBFB-5A9158DA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EFAB7-1B53-4AC3-8685-415C6381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27B9-954D-4822-8AAA-C5A60F7E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A4917-6235-440A-A4F3-2C593F28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966C-43AC-4D72-859E-C7C220A7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66A-116D-497A-824C-A59D9C12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7889-CC2A-459F-9B63-3950F5BE3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72C19-E1FA-4FC7-93A5-F9E8C445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7FA31-2178-4697-912D-030943AC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273E0-B04D-4806-B174-1B4D25C2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6996C-30A0-4E8D-9F49-C3C8C5F4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27ADFD-AAB8-4E66-ACFB-496EABC8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D1224-C475-4EEB-8723-AE037E0E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33684-86EB-4A63-BA45-A9401874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73C7C-0A8B-4C2B-A827-E8D3DA63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1D122-C376-46BB-A107-E90EA21D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36E7-2804-4DA1-A1C3-D05E6215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189CC-4A93-41B3-8674-C940FF44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BB32E-E353-4291-A8F9-C36ACE073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D8A72-EFA4-43A7-80EF-FFD3DC14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3377C-19DD-465F-A3F1-E4467FEA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B051D-F0AE-4BB9-A58D-505E69CA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3268E-7963-420E-BA85-6E0647822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7B000-7CFF-435F-8D92-466C383B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AAE6-6B75-495C-AE13-C5E6A4C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EDB27-C82A-47B7-9FCE-FE8A55ED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739C4-89FA-47BE-87F8-3506E64D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568-6678-4E1C-9FC5-15102B7C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E1673-7298-4F18-9803-D1D1330C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870C9-4D20-4036-B231-C1210577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8203B-C40A-439A-B695-2268577F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98E5-0FAC-415B-BB15-12A0F5F5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369BA-F39C-4457-A16E-3E5298EC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E8FCE-ED75-41B6-AC1A-B1094C48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0B4D4-2D1F-4230-8F98-95278264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44B7A-EB3C-4811-A2EF-749B1226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CCFA8-C499-42E5-8E16-BBE7584F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10954-846F-45F3-AAC5-B090B0B0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9778-3A28-4AA4-A881-26CBDBE5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E98F6-D684-4F03-B2C7-A4D4EED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FC774-A1B2-40E6-9615-051EB7B8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5378C-652D-4A81-9F39-AEDC3E08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64889-9649-404E-9917-5056F99D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B8E9D-A712-4A11-8211-5B6B36AE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CE20E-7164-4A96-A783-7E082F25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E7EF0-D0AB-4EA0-901F-78A4150C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A938-EDD0-4D29-8AEC-6DE07166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ECB6F-8359-475C-9153-6D1A5B61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E8131-8CCD-4798-82F6-DFC589C1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3A83-7885-4F0A-A78E-EC34DF83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288AB-1922-455F-9647-394A657E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CBB14-C8CF-4081-918D-6FC84197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38EE8-32DF-491D-9787-2B896E6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324EF-6403-4FC8-9A5F-B3FB2B2E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2D221-4D78-417C-84A4-41E3E49C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A9E42-2245-46EA-8BA9-A149A03D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93D85-3123-44CF-8E16-E95E65055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C284D-3A9B-406A-BD77-6850BF723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FAA5D-DE4E-42F9-96DB-1FD4419A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0B000-978A-457C-89C1-D5437533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363F-01E1-4572-8138-13EB99A76E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9F90-E53E-46C9-91A9-85A4766FD2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71F5-B94E-4891-BB2C-727F37165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62DA-7655-4FF5-9D4A-532AA1A02F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66F4-9B22-4677-AB50-77E44F5142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3CE0-898D-494B-A2C0-7D71AA014A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BC46-E779-4AE5-8203-F56AA27F64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DC74-C33C-4504-B48D-97FF8FB388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8C38-8EA6-4568-B3A2-1CA2866912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5ECD-7DA8-468B-99CF-50B6626D1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B982-F640-4197-938B-F5FD955A45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8241-16F4-4A47-AA87-5B9657037C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159C-0A01-488D-B574-322575BB9C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1F41-782C-4A48-ADD2-A0E6748F0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9A3A-C15B-47A4-8F4A-3440129CD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EF5D-AF7C-4AF8-AA27-4A7C2E416D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192C-6214-4F36-AB38-7ACBC34BAA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F5DC-28CB-439D-B8CB-E86E4E322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E4D4-5C7F-4D7B-A259-8422D8E171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D38A-5AFD-4F1A-9253-9427EDE477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21B5-47F1-445C-BD8F-5727CD8AA3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476E5-42CD-4C9F-A50A-6DA314E9D7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FDCB-4C6C-48CF-AAB6-64C0D0B827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1D48-6BD7-487E-8E1B-4CD8171102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1CDA-CE05-4AED-9DAE-4EF53D1A65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4866-990A-4A4C-A4B2-A912E5B307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F489-BB38-4DD0-8ABA-4DFDCAC979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77CB-76FE-41A7-BCF5-17AF60D687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008C-E40F-4FAE-9377-1DAC15F8D0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54A8-4ADC-4A04-BBF9-7034E2C20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F94F-7C9E-4EF4-8815-AF3078BA01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4E63-CBF2-4292-BCE9-D2BD525EF5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CFC4-977F-4771-BB2E-15B6F42DBC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55D1-4FD7-415C-9F86-F9EFAC0872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6B02-2637-4DEE-842D-2C03E663E4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D717-F1BE-4CD1-878D-94B1B0583B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7CA5-BCE4-48C9-A033-E8437F864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3F97-9087-460E-976F-4BFE87A000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00D9-699B-46F7-AFFC-FFFD919800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3670-1B8E-4AB9-862B-3E4E81F359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33400" y="1916280"/>
            <a:ext cx="5677200" cy="7236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149400" y="3368520"/>
            <a:ext cx="895968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69633" descr=""/>
          <p:cNvPicPr/>
          <p:nvPr/>
        </p:nvPicPr>
        <p:blipFill>
          <a:blip r:embed="rId1"/>
          <a:stretch/>
        </p:blipFill>
        <p:spPr>
          <a:xfrm>
            <a:off x="1133640" y="1125360"/>
            <a:ext cx="6876720" cy="209556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69634" descr=""/>
          <p:cNvPicPr/>
          <p:nvPr/>
        </p:nvPicPr>
        <p:blipFill>
          <a:blip r:embed="rId2"/>
          <a:stretch/>
        </p:blipFill>
        <p:spPr>
          <a:xfrm>
            <a:off x="352440" y="3457440"/>
            <a:ext cx="8439120" cy="22766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4284720" y="1628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4211640" y="2276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7093080" y="16286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6"/>
          <a:stretch/>
        </p:blipFill>
        <p:spPr>
          <a:xfrm>
            <a:off x="7236000" y="2205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7"/>
          <a:stretch/>
        </p:blipFill>
        <p:spPr>
          <a:xfrm>
            <a:off x="1835280" y="40053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8"/>
          <a:stretch/>
        </p:blipFill>
        <p:spPr>
          <a:xfrm>
            <a:off x="1979640" y="46674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9"/>
          <a:stretch/>
        </p:blipFill>
        <p:spPr>
          <a:xfrm>
            <a:off x="5003640" y="4076640"/>
            <a:ext cx="100836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0"/>
          <a:stretch/>
        </p:blipFill>
        <p:spPr>
          <a:xfrm>
            <a:off x="5003640" y="465300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1"/>
          <a:stretch/>
        </p:blipFill>
        <p:spPr>
          <a:xfrm>
            <a:off x="7885080" y="40053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2"/>
          <a:stretch/>
        </p:blipFill>
        <p:spPr>
          <a:xfrm>
            <a:off x="7885080" y="4653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23920" y="1166760"/>
            <a:ext cx="8696160" cy="4524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5435640" y="5157720"/>
            <a:ext cx="1800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428760" y="1057320"/>
            <a:ext cx="8286480" cy="47433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7093080" y="1182600"/>
            <a:ext cx="158256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1187280" y="1916280"/>
            <a:ext cx="64800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4168800" y="3400560"/>
            <a:ext cx="107964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4500720" y="5300640"/>
            <a:ext cx="10792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6"/>
          <a:stretch/>
        </p:blipFill>
        <p:spPr>
          <a:xfrm>
            <a:off x="4284720" y="43941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7"/>
          <a:stretch/>
        </p:blipFill>
        <p:spPr>
          <a:xfrm>
            <a:off x="1979640" y="4221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8"/>
          <a:stretch/>
        </p:blipFill>
        <p:spPr>
          <a:xfrm>
            <a:off x="7164360" y="4278240"/>
            <a:ext cx="792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8373" descr=""/>
          <p:cNvPicPr/>
          <p:nvPr/>
        </p:nvPicPr>
        <p:blipFill>
          <a:blip r:embed="rId1"/>
          <a:stretch/>
        </p:blipFill>
        <p:spPr>
          <a:xfrm>
            <a:off x="281160" y="853920"/>
            <a:ext cx="8581680" cy="57438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4917960" y="61070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233280" y="1062000"/>
            <a:ext cx="8677440" cy="473400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57353" descr=""/>
          <p:cNvPicPr/>
          <p:nvPr/>
        </p:nvPicPr>
        <p:blipFill>
          <a:blip r:embed="rId2"/>
          <a:stretch/>
        </p:blipFill>
        <p:spPr>
          <a:xfrm>
            <a:off x="1270080" y="2637000"/>
            <a:ext cx="733428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6324" descr=""/>
          <p:cNvPicPr/>
          <p:nvPr/>
        </p:nvPicPr>
        <p:blipFill>
          <a:blip r:embed="rId1"/>
          <a:stretch/>
        </p:blipFill>
        <p:spPr>
          <a:xfrm>
            <a:off x="295200" y="819000"/>
            <a:ext cx="8553600" cy="556272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56326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71500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5300" descr=""/>
          <p:cNvPicPr/>
          <p:nvPr/>
        </p:nvPicPr>
        <p:blipFill>
          <a:blip r:embed="rId1"/>
          <a:stretch/>
        </p:blipFill>
        <p:spPr>
          <a:xfrm>
            <a:off x="585720" y="981000"/>
            <a:ext cx="7972560" cy="489600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5301" descr=""/>
          <p:cNvPicPr/>
          <p:nvPr/>
        </p:nvPicPr>
        <p:blipFill>
          <a:blip r:embed="rId2"/>
          <a:stretch/>
        </p:blipFill>
        <p:spPr>
          <a:xfrm>
            <a:off x="1857240" y="2349360"/>
            <a:ext cx="5810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4276" descr=""/>
          <p:cNvPicPr/>
          <p:nvPr/>
        </p:nvPicPr>
        <p:blipFill>
          <a:blip r:embed="rId1"/>
          <a:stretch/>
        </p:blipFill>
        <p:spPr>
          <a:xfrm>
            <a:off x="214200" y="739800"/>
            <a:ext cx="8715600" cy="58579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900000" y="5300640"/>
            <a:ext cx="8064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图片 52231" descr=""/>
          <p:cNvPicPr/>
          <p:nvPr/>
        </p:nvPicPr>
        <p:blipFill>
          <a:blip r:embed="rId1"/>
          <a:stretch/>
        </p:blipFill>
        <p:spPr>
          <a:xfrm>
            <a:off x="252360" y="1285920"/>
            <a:ext cx="8639280" cy="42861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410544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3"/>
          <a:stretch/>
        </p:blipFill>
        <p:spPr>
          <a:xfrm>
            <a:off x="684360" y="3500280"/>
            <a:ext cx="41050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4"/>
          <a:stretch/>
        </p:blipFill>
        <p:spPr>
          <a:xfrm>
            <a:off x="755640" y="4149720"/>
            <a:ext cx="410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45:39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